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gif" ContentType="image/gif"/>
  <Override PartName="/ppt/media/image25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9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39.jpeg" ContentType="image/jpeg"/>
  <Override PartName="/ppt/media/image45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8.gif" ContentType="image/gif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C05-9F2F-4D75-823F-AFCDC807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9D61-8873-4E0F-9CFB-3955F031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3A3-5314-49E6-B27D-B896C0F9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F4E-0EC8-4425-9693-B33A426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DE1B-2AD6-44D4-8391-18519209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D69-6B23-44AD-B3BB-C24439C1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A1A-7396-473E-BA2A-11F856D7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7969-75BB-4D04-9358-D03E9ED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6EC2-FD0F-462B-9BBE-58C794B9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CBDC-49BC-414C-B0B1-D13A2E17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0BA8-BB36-4F17-827B-DCAD884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EEF-54F6-4689-83D5-AA014A59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183E6-07ED-4AA3-8837-2570BD7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C76D-D689-4B20-A2EC-D7DD3BA5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09D9-309A-4526-840C-BDB66082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C621-E203-4ECA-A2B9-89456D59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913-5323-4634-9318-21ECEA8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A9C-B9AE-4E5A-9654-8E72A519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16FA-150C-4FD3-802C-E31A7757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F70A-0AFD-4D2E-9313-D8891E48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99-0778-448F-BB70-7AF0A8C4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43B2-9253-4A7B-B191-44155ED4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4BB-9FBE-4485-B250-612009F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45D-2338-4FFF-B5E7-85312AD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61F3-6B1A-4D44-A7A0-A803B41D32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DB4B-ACAB-4142-983F-5F209D3CDB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50920" y="260280"/>
            <a:ext cx="87138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MEDII  DE  VIAŢ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0920" y="3716280"/>
            <a:ext cx="8893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3c145"/>
                </a:solidFill>
                <a:latin typeface="Impact"/>
              </a:rPr>
              <a:t>GRĂD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3c145"/>
              </a:solidFill>
              <a:latin typeface="Impact"/>
              <a:ea typeface="Impact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95640" y="1773360"/>
            <a:ext cx="2352600" cy="280800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2066760" cy="21909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28840" cy="21718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330840" y="476280"/>
            <a:ext cx="831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Unele plante trăiesc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mai mulţi ani – plante peren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32720" y="6491160"/>
            <a:ext cx="241128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6200" y="5805360"/>
            <a:ext cx="82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Numiţi câteva plante perene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-9360" y="189000"/>
            <a:ext cx="5191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Omul consum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de la une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plant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46960" y="1484280"/>
            <a:ext cx="3434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rădăcina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tulpina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runz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ruct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eminţele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floril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530320" y="5667480"/>
            <a:ext cx="33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Amintiţi-vă ş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daţi exempl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24000" y="76320"/>
            <a:ext cx="9468000" cy="67816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2780640" y="260280"/>
            <a:ext cx="613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Bogate în vitamine şi mineral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legumele, zarzavatur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şi fructele trebuie să fi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    </a:t>
            </a:r>
            <a:r>
              <a:rPr b="1" lang="ro-RO" sz="2800" spc="-1" strike="noStrike">
                <a:solidFill>
                  <a:srgbClr val="ff3300"/>
                </a:solidFill>
                <a:latin typeface="Tahoma"/>
              </a:rPr>
              <a:t>nelipsite din alimentaţi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80080" cy="6858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4678200" y="0"/>
            <a:ext cx="44658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1920" y="333360"/>
            <a:ext cx="904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Se recomandă să  se consu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mai ales în stare proaspăt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0" y="4653000"/>
            <a:ext cx="7178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Enumeraţi şi alte modalităţ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de a consuma legumele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lang="ro-RO" sz="3600" spc="-1" strike="noStrike">
                <a:solidFill>
                  <a:srgbClr val="ff6600"/>
                </a:solidFill>
                <a:latin typeface="Tahoma"/>
              </a:rPr>
              <a:t>zarzavaturile şi fructe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428400" y="3326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În grădină întâlnim ş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4680" y="1340640"/>
            <a:ext cx="78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insecte şi păsări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folosi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65760" y="2060280"/>
            <a:ext cx="42339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buburuz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flutu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albin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păianjeni etc.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râm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diferite păsă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veveriţe etc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524280" y="4869000"/>
            <a:ext cx="193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flutur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801720" y="765000"/>
            <a:ext cx="49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acestea ajută la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6080" y="1919160"/>
            <a:ext cx="55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polenizarea plante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96880" y="4292640"/>
            <a:ext cx="18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alb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116000" y="54000"/>
            <a:ext cx="6804000" cy="68040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4560" y="333360"/>
            <a:ext cx="8426880" cy="57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ccff"/>
                </a:solidFill>
                <a:latin typeface="Tahoma"/>
              </a:rPr>
              <a:t>combaterea dăunătoril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păduchi de plant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omiz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gândaci şi alte insecte dăunătoar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viermi care atacă fruc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şi lemnul copac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greieri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ffff"/>
                </a:solidFill>
                <a:latin typeface="Tahoma"/>
              </a:rPr>
              <a:t>melci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04880" y="5877000"/>
            <a:ext cx="265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buburu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77520" y="476280"/>
            <a:ext cx="60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ffff"/>
                </a:solidFill>
                <a:latin typeface="Tahoma"/>
              </a:rPr>
              <a:t>înmulţirea plantelo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2991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5435640" cy="39258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25160" y="2421000"/>
            <a:ext cx="281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hryso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58920" y="4292640"/>
            <a:ext cx="283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rab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8160" y="141120"/>
            <a:ext cx="321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Alte insec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folosi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639720" y="590400"/>
            <a:ext cx="29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călugăriţa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9280" y="187200"/>
            <a:ext cx="54565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Grădina este un medi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de viaţă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realiza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9900"/>
                </a:solidFill>
                <a:latin typeface="Tahoma"/>
              </a:rPr>
              <a:t>de om</a:t>
            </a:r>
            <a:r>
              <a:rPr b="1" lang="ro-RO" sz="54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262480" y="0"/>
            <a:ext cx="38815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02440" y="4076640"/>
            <a:ext cx="539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- afânarea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- fertilizarea solului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1680" y="371520"/>
            <a:ext cx="26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5400" spc="-1" strike="noStrike">
                <a:solidFill>
                  <a:srgbClr val="ffffff"/>
                </a:solidFill>
                <a:latin typeface="Tahoma"/>
              </a:rPr>
              <a:t>râme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666960" cy="42210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572000" y="3298680"/>
            <a:ext cx="4572000" cy="35593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2843280" y="0"/>
            <a:ext cx="3349440" cy="400536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28400" y="332640"/>
            <a:ext cx="57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În grădină întâlnim şi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1720" y="1340640"/>
            <a:ext cx="80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00ccff"/>
                </a:solidFill>
                <a:latin typeface="Tahoma"/>
              </a:rPr>
              <a:t>insecte şi păsări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dăunătoar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08880" y="2276640"/>
            <a:ext cx="61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gândacul de Colorado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08400" y="692280"/>
            <a:ext cx="617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fluturele alb al verzei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23018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6804000" y="1844640"/>
            <a:ext cx="2340000" cy="23018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6012000" y="3776760"/>
            <a:ext cx="3132000" cy="30812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0" y="-1908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017000" y="1125360"/>
            <a:ext cx="536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păduchii de plant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2759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6562800" y="0"/>
            <a:ext cx="2581200" cy="27813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3674520" y="3789360"/>
            <a:ext cx="23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greieri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2680" y="2637000"/>
            <a:ext cx="339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ândacul băl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8120" y="2349360"/>
            <a:ext cx="219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ândac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ghebo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0" y="3718080"/>
            <a:ext cx="3564000" cy="31399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6442200" y="3716280"/>
            <a:ext cx="2701800" cy="3141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 flipH="1">
            <a:off x="3059280" y="4292640"/>
            <a:ext cx="1008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012000" y="4292640"/>
            <a:ext cx="1008000" cy="576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49200" y="404640"/>
            <a:ext cx="250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gândac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340000" y="907920"/>
            <a:ext cx="2016000" cy="505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300720" y="981000"/>
            <a:ext cx="115092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780000" y="2825640"/>
            <a:ext cx="5364000" cy="403236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5340960" y="571680"/>
            <a:ext cx="24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lăcust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059280" y="1341360"/>
            <a:ext cx="3241440" cy="17272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00720" y="1341360"/>
            <a:ext cx="503280" cy="2664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6948360" cy="68547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3080" y="620640"/>
            <a:ext cx="719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limax – melcul fără cochili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0" y="4029120"/>
            <a:ext cx="2916360" cy="28288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365040" y="260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coropişniţa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-131760" y="0"/>
            <a:ext cx="9275760" cy="68580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721080" y="4941720"/>
            <a:ext cx="23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6600"/>
                </a:solidFill>
                <a:latin typeface="Tahoma"/>
              </a:rPr>
              <a:t>cârtiţă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93640" y="4941720"/>
            <a:ext cx="687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trebuie păstrate curat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20" y="189000"/>
            <a:ext cx="29217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paţii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verzi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urs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de a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cur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şi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oxigen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900000" y="888840"/>
            <a:ext cx="8244000" cy="59691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79800" y="138240"/>
            <a:ext cx="563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o-RO" sz="4400" spc="-1" strike="noStrike">
                <a:solidFill>
                  <a:srgbClr val="ffffcc"/>
                </a:solidFill>
                <a:latin typeface="Tahoma"/>
              </a:rPr>
              <a:t>pentru a se hrăni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744000" y="4937040"/>
            <a:ext cx="538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grădina de legum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şi rădăcinoas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livada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36600" y="3213000"/>
            <a:ext cx="678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Plantele şi animale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434760" y="5157720"/>
            <a:ext cx="509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care trăiesc în e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00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3063960" y="5805360"/>
            <a:ext cx="490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o-RO" sz="4400" spc="-1" strike="noStrike">
                <a:solidFill>
                  <a:srgbClr val="ff6600"/>
                </a:solidFill>
                <a:latin typeface="Tahoma"/>
              </a:rPr>
              <a:t>trebuie ocrotit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250920" y="54936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 împrospăta şi curăţa                  aerul: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73000" y="1125360"/>
            <a:ext cx="6332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parcuri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cc00"/>
                </a:solidFill>
                <a:latin typeface="Tahoma"/>
              </a:rPr>
              <a:t>grădinile ornament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00" y="2924280"/>
            <a:ext cx="77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conservarea unor soiur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de plante şi specii de anima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088360" y="4076640"/>
            <a:ext cx="48970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grădinile botan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grădinile zoologice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79280" y="62064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-şi înfrumuseţa mediul            de viaţă şi a se recree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7524720" y="52387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808200" y="531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3320" y="5589720"/>
            <a:ext cx="71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Fiecare soi de plantă are nevo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200" spc="-1" strike="noStrike">
                <a:solidFill>
                  <a:srgbClr val="ffff00"/>
                </a:solidFill>
                <a:latin typeface="Tahoma"/>
              </a:rPr>
              <a:t>de un anumit tip de s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0680" y="189000"/>
            <a:ext cx="659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Pentru a obţine rezult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în cultivarea solului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3600" spc="-1" strike="noStrike">
                <a:solidFill>
                  <a:srgbClr val="ffff00"/>
                </a:solidFill>
                <a:latin typeface="Tahoma"/>
              </a:rPr>
              <a:t>omul trebu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48640" y="1341360"/>
            <a:ext cx="418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să facă la ti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cc00"/>
                </a:solidFill>
                <a:latin typeface="Tahoma"/>
              </a:rPr>
              <a:t>lucrările agrico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69960" y="2565360"/>
            <a:ext cx="299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arat/săp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fertiliz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semăn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plivi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064760" y="2637000"/>
            <a:ext cx="435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rări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irigat / udat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stropit împotri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dăunătorilor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- recolta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39640" y="303120"/>
            <a:ext cx="709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00"/>
                </a:solidFill>
                <a:latin typeface="Tahoma"/>
              </a:rPr>
              <a:t>În grădini se cultivă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42080" y="1268280"/>
            <a:ext cx="7289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legume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zarzavaturi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pomi fructiferi (livezi)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plante ornamentale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o-RO" sz="4800" spc="-1" strike="noStrike">
                <a:solidFill>
                  <a:srgbClr val="ffffcc"/>
                </a:solidFill>
                <a:latin typeface="Tahoma"/>
              </a:rPr>
              <a:t>cereale etc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580000" cy="39337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5867280" y="3068640"/>
            <a:ext cx="3276720" cy="37893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0" y="3038400"/>
            <a:ext cx="5867280" cy="38196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564000" cy="30812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21560" y="4149720"/>
            <a:ext cx="854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Unele plante au ciclul de viaţ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00"/>
                </a:solidFill>
                <a:latin typeface="Tahoma"/>
              </a:rPr>
              <a:t>de un an – plante anu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360" y="5734080"/>
            <a:ext cx="346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Daţi exemp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4067280" y="3032280"/>
            <a:ext cx="5076720" cy="382572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4140360" y="0"/>
            <a:ext cx="5003640" cy="30798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211640" cy="3174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7520" y="1916280"/>
            <a:ext cx="819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Sunt plante cu ciclul de viaţă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de doi ani – plante bienale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4160" y="5877000"/>
            <a:ext cx="59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Enumeraţi plante biena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6T06:09:16Z</dcterms:created>
  <dc:creator>user</dc:creator>
  <dc:description/>
  <dc:language>en-US</dc:language>
  <cp:lastModifiedBy>IULIA</cp:lastModifiedBy>
  <dcterms:modified xsi:type="dcterms:W3CDTF">2009-11-11T17:08:24Z</dcterms:modified>
  <cp:revision>185</cp:revision>
  <dc:subject/>
  <dc:title>Slide 1</dc:title>
</cp:coreProperties>
</file>